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 Demi"/>
              </a:rPr>
              <a:t>Click to move the slide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20C-DFFE-403C-B55D-023C72E4F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C30-2D3B-42C1-9CDB-22983C9E20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7A2-577F-4143-9AC4-6956989D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A09-6191-49B4-9C64-1CAEF3B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108-ADD5-4E59-959C-C166B0C7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C23-F02A-4801-A8E9-355C6D9B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870-8CD7-489D-9BAC-E02D52F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32-7D59-489B-864B-97DB431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796-D640-434E-B198-7A219729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097-4414-435C-9B26-CCDA5BA9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E42-8702-4C78-B4F7-FD482723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6D2-DC09-4B9C-A68F-B1FD43C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36B-2319-46F0-B811-ED6B97B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754-B72B-4F30-A69C-988E193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Click to edit the outline text format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1" marL="482760" indent="-18576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econd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2" marL="742680" indent="-14832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Third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3" marL="1040040" indent="-14832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Four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4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Fif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5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ix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6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even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7B9-701F-4136-BAC4-13DB096C66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rlin Sans FB Demi"/>
              </a:rPr>
              <a:t>Las banderas del mundo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Berlin Sans FB Demi"/>
              </a:rPr>
              <a:t>hispano</a:t>
            </a:r>
            <a:endParaRPr b="0" lang="en-US" sz="88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8064a2"/>
                </a:solidFill>
                <a:latin typeface="Berlin Sans FB Demi"/>
              </a:rPr>
              <a:t>¿</a:t>
            </a:r>
            <a:r>
              <a:rPr b="0" lang="es-ES" sz="6600" spc="-1" strike="noStrike">
                <a:solidFill>
                  <a:srgbClr val="ff0000"/>
                </a:solidFill>
                <a:latin typeface="Berlin Sans FB Demi"/>
              </a:rPr>
              <a:t>De</a:t>
            </a:r>
            <a:r>
              <a:rPr b="0" lang="es-ES" sz="6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0" lang="es-ES" sz="6600" spc="-1" strike="noStrike">
                <a:solidFill>
                  <a:srgbClr val="00b050"/>
                </a:solidFill>
                <a:latin typeface="Berlin Sans FB Demi"/>
              </a:rPr>
              <a:t>qué</a:t>
            </a:r>
            <a:r>
              <a:rPr b="0" lang="es-ES" sz="6600" spc="-1" strike="noStrike">
                <a:solidFill>
                  <a:srgbClr val="00b0f0"/>
                </a:solidFill>
                <a:latin typeface="Berlin Sans FB Demi"/>
              </a:rPr>
              <a:t> colores </a:t>
            </a:r>
            <a:r>
              <a:rPr b="0" lang="es-ES" sz="6600" spc="-1" strike="noStrike">
                <a:solidFill>
                  <a:srgbClr val="f79646"/>
                </a:solidFill>
                <a:latin typeface="Berlin Sans FB Demi"/>
              </a:rPr>
              <a:t>son</a:t>
            </a:r>
            <a:r>
              <a:rPr b="0" lang="es-ES" sz="6600" spc="-1" strike="noStrike">
                <a:solidFill>
                  <a:srgbClr val="ffff00"/>
                </a:solidFill>
                <a:latin typeface="Berlin Sans FB Demi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Berlin Sans FB Demi"/>
              </a:rPr>
              <a:t>la bandera de los Estados Unidos?</a:t>
            </a:r>
            <a:endParaRPr b="0" lang="en-US" sz="4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504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 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Venezuel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638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5400"/>
            </a:b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la bandera de Puerto Rico?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815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México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718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Españ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17720" y="2057400"/>
            <a:ext cx="6508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Argentin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562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5400"/>
            </a:b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la bandera de Cuba?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3" name="Content Placeholder 1" descr=""/>
          <p:cNvPicPr/>
          <p:nvPr/>
        </p:nvPicPr>
        <p:blipFill>
          <a:blip r:embed="rId1"/>
          <a:stretch/>
        </p:blipFill>
        <p:spPr>
          <a:xfrm>
            <a:off x="952560" y="1981080"/>
            <a:ext cx="72388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4800"/>
            </a:br>
            <a:r>
              <a:rPr b="0" lang="es-ES" sz="4800" spc="-1" strike="noStrike">
                <a:solidFill>
                  <a:srgbClr val="ffffff"/>
                </a:solidFill>
                <a:latin typeface="Berlin Sans FB Demi"/>
              </a:rPr>
              <a:t>la bandera de Bolivia?</a:t>
            </a:r>
            <a:endParaRPr b="0" lang="en-US" sz="48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1866960" y="205740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3:40:26Z</dcterms:created>
  <dc:creator>Lisa</dc:creator>
  <dc:description/>
  <dc:language>en-US</dc:language>
  <cp:lastModifiedBy>Amy Zeeff</cp:lastModifiedBy>
  <dcterms:modified xsi:type="dcterms:W3CDTF">2014-09-17T12:31:29Z</dcterms:modified>
  <cp:revision>5</cp:revision>
  <dc:subject/>
  <dc:title>Las banderas del mundo</dc:title>
</cp:coreProperties>
</file>